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0083-B3DC-409F-8BFD-34FC22BA4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48A6-1286-427B-A50A-43F9CE73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851B-3574-47DD-9632-5838224F3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7B60-0AED-4B91-B038-CDC634F0D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033C-F15C-412A-931F-0AC9B122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3B88-D138-4CC0-809E-B096093A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C18F-3D47-4548-9E9D-D1DDC272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FD4C-88BA-41A4-A317-5DE76C9E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E9C0-35CE-4F5E-9A79-5A91B899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0099-765D-4A45-9C38-8CC07F52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B1AD-B5A4-469A-B448-ED904A77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C2FA-F774-45BF-BAB4-376EE214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D1B2-92E4-4E79-8A0A-1C656B49C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1906207kQXBgfdFwz_ph" descr="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0"/>
            <a:ext cx="8915400" cy="32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َن أنا لأصيرَ من شعبِك   من دُعيَ عليه اسم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عجباً هل دعوتني أنا   لأكونَ ملكاً ل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6257786BKgRhTuZiB_ph" descr=""/>
          <p:cNvPicPr/>
          <p:nvPr/>
        </p:nvPicPr>
        <p:blipFill>
          <a:blip r:embed="rId1"/>
          <a:stretch/>
        </p:blipFill>
        <p:spPr>
          <a:xfrm>
            <a:off x="1828800" y="0"/>
            <a:ext cx="73152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1752480" cy="86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ل لغريبٍ لضالٍ أثيمٍ أن ينتمي للمل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عَّرفتني كم أنَّك رحيم إذ غرزتني في كرمتِك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932178NoJBjYGUoI_ph" descr=""/>
          <p:cNvPicPr/>
          <p:nvPr/>
        </p:nvPicPr>
        <p:blipFill>
          <a:blip r:embed="rId1"/>
          <a:stretch/>
        </p:blipFill>
        <p:spPr>
          <a:xfrm>
            <a:off x="0" y="0"/>
            <a:ext cx="62485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400800" y="457200"/>
            <a:ext cx="274320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باركٌ إسم الرب مباركٌ إسم الرب كل ما في باطني يقول مباركٌ إسم الرب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149828KifBGNXzeC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400800" y="304920"/>
            <a:ext cx="2743200" cy="63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أظهرتَ لي عظيمَ رحمتكَ بسفكِ دماءِ الح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حُبُّكَ يفوقُ كلَّ خيالٍ وأعلنتَ لنا سرّ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ristwithchild" descr=""/>
          <p:cNvPicPr/>
          <p:nvPr/>
        </p:nvPicPr>
        <p:blipFill>
          <a:blip r:embed="rId1"/>
          <a:stretch/>
        </p:blipFill>
        <p:spPr>
          <a:xfrm>
            <a:off x="0" y="0"/>
            <a:ext cx="62485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400800" y="228600"/>
            <a:ext cx="2514600" cy="65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مجداً لكَ قد انشقَّ الحجاب وأعلنتَ لنا سرّك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الآنَ أصرخُ يا آب الآب  مجداً </a:t>
            </a:r>
            <a:r>
              <a:rPr b="1" lang="ar-SA" sz="4000" spc="-1" strike="noStrike">
                <a:solidFill>
                  <a:srgbClr val="ffcc66"/>
                </a:solidFill>
                <a:latin typeface="Times New Roman"/>
              </a:rPr>
              <a:t>فقد</a:t>
            </a:r>
            <a:r>
              <a:rPr b="1" lang="ar-SA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صرتُ لكَ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932178NoJBjYGUoI_ph" descr=""/>
          <p:cNvPicPr/>
          <p:nvPr/>
        </p:nvPicPr>
        <p:blipFill>
          <a:blip r:embed="rId1"/>
          <a:stretch/>
        </p:blipFill>
        <p:spPr>
          <a:xfrm>
            <a:off x="0" y="0"/>
            <a:ext cx="62485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400800" y="457200"/>
            <a:ext cx="274320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باركٌ إسم الرب مباركٌ إسم الرب كل ما في باطني يقول مباركٌ إسم الرب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3T07:22:08Z</dcterms:created>
  <dc:creator>SUZANNE.MD</dc:creator>
  <dc:description/>
  <dc:language>en-US</dc:language>
  <cp:lastModifiedBy>USER</cp:lastModifiedBy>
  <dcterms:modified xsi:type="dcterms:W3CDTF">2003-02-08T07:41:51Z</dcterms:modified>
  <cp:revision>5</cp:revision>
  <dc:subject/>
  <dc:title>PowerPoint Presentation</dc:title>
</cp:coreProperties>
</file>